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CB3-186B-421C-A86D-0EA1D738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593-57E4-4A36-8008-07EDA97C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3F3-798C-4800-8C86-2E9BCBBA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4E8-5861-482A-B822-2BF5A84F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6B4-856E-4047-9F55-4F37DEA3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D63-6BBF-46F1-BF6E-9EDB3C83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B49-A2AC-4AE1-86F9-E04F694F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4E3-FCBC-4808-805C-4821444E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BD1-FB99-4E61-8FE6-64979476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698-8EB9-446F-8E5F-834303CC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14E-0B88-4D7E-B2DE-521FCD8D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CEE-CD74-40B9-A330-E0D66E4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2219-D553-49D1-9FDB-5EF16618E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907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problema della sicurezza nella percezione dei citta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levazione demoscopica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Principali risult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Provincia di Bologna - Centro Demoscopico Metropolita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con la collaborazione d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Regione Emilia-Romagna - Progetto Città Sic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Campione allargato per la provincia di Bolog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45360" cy="533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8380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2. I temi in calo negli ultimi tre anni. Percentuale di persone che indica il tema tra i primi tre problemi nella realtà di oggi. Valori riferiti alla provincia di Bologna del giugno 2000, del giugno 2001 e del giugno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22960" cy="537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762120"/>
            <a:ext cx="8229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3. I temi emergenti negli ultimi tre anni. Percentuale di persone che indica il tema tra i primi tre problemi nella realtà di oggi. Valori riferiti alla provincia di Bologna del giugno 2000, del giugno 2001 e del giugno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12160" cy="5029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91440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4. Andamento dell’opinione pubblica sui temi indicati tra i maggioritari nel corso delle rilevazioni fatte dal MeDeC tra il giugno 2001 ed il giugno 2002 Percentuali riferite ai residenti nel comune di Bologna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771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1. Micro-criminalità e vittimizz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838080"/>
            <a:ext cx="7782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5. Percentuale di persone che considera il proprio comune poco o per niente sicuro rispetto alla criminalità nel giugno 2001 e nel giugno 2002, a Bologna città, nella cintura bolognese, nel resto della provincia di Bologna e nel resto della regione Emilia-Romag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676520"/>
          <a:ext cx="758196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5819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609480"/>
            <a:ext cx="8050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ig. 6. Percentuale di persone che dichiara qualche fattore di disagio nella propria zona di residenza, nel giugno 2001 e nel giugno 2002, a Bologna città, nella cintura bolognese, nel resto della provincia di Bologna e nel resto della regione Emilia-Romag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772400" cy="464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685800"/>
            <a:ext cx="7631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ig. 7. Percentuale di persone che hanno subito un reato o più nei 12 mesi precedenti l’intervista, nel giugno 2001 e nel giugno 2002, a Bologna città, nella cintura bolognese, nel resto della provincia di Bologna e nel resto della regione Emilia-Romag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838080"/>
            <a:ext cx="7890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ig. 8. Percentuale di persone che si dichiarano poco o per niente sicure la sera quando camminano da sole nella zona di residenza, nel giugno 2001 e nel giugno 2002, a Bologna città, nella cintura bolognese, nel resto della provincia di Bologna e nel resto della regione Emilia-Romag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3288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762120"/>
            <a:ext cx="7925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ig. 9. Percentuale di persone che dichiarano molta o abbastanza fiducia nella Polizia Municipale, nel giugno 2001 e nel giugno 2002, a Bologna città, nella cintura bolognese, nel resto della provincia di Bologna e nel resto della regione Emilia-Romag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1905120"/>
          <a:ext cx="78328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832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771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2. I mutamenti dell’orizzonte problema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507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838080"/>
            <a:ext cx="797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1. Percentuale di persone che indicano alcuni temi fra i primi tre problemi della realtà di oggi; valori al giugno 2002 n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4:53:30Z</dcterms:created>
  <dc:creator>UTENTE</dc:creator>
  <dc:description/>
  <dc:language>en-US</dc:language>
  <cp:lastModifiedBy>UTENTE</cp:lastModifiedBy>
  <dcterms:modified xsi:type="dcterms:W3CDTF">2002-09-19T08:41:33Z</dcterms:modified>
  <cp:revision>20</cp:revision>
  <dc:subject/>
  <dc:title>Presentazione di PowerPoint</dc:title>
</cp:coreProperties>
</file>